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B12E1-B7A9-4C5E-BDFA-2E16EBF0AD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4D57B-FA49-4EA2-9A47-96CBF8F51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72C96-52BD-41D0-A814-E9FCB5D1F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BD1D5-94F7-4AFC-BCC7-4E8D7DD3A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A0593-ACB9-41CF-8915-092824300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EDE47-9C72-46F6-8F32-7E77DC189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64424-A094-4957-A4A0-1002EEB4F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AF368-6720-4C98-B4F0-1ADCF0F7C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EA4F0-2FD8-4E04-9D08-5E02C5B5A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C8955-5C2C-4152-BAE4-4213760B1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785AE-630E-4B4E-A03A-6F4A655C2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29410-299D-48E1-B860-6F4BFE29A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51093-06EE-45EA-BAA6-9D8938C5B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50D0C-8748-4648-A112-5108C46CE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37661-E60C-4F15-BDF1-1CF1A751D6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B802E-CF92-4E64-8F0B-7B3BE6B88B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030B9-4C9E-4FB9-895E-C75D24426A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D133C-11D7-411D-BCC4-A1C4DEFF3E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745B-F256-4823-B078-F4F1A4827E6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CFBF-A9A6-4CBA-B40B-5BE1DC49F7E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6895-5A86-4A6B-ABA7-283E4508618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3DF7-746B-4A6B-A760-93079E2996B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1886-DE90-47C5-963A-CF40E910DE8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7884-80C6-409C-B929-19747712B32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FEF4-77FC-48D7-8EF8-81BE2AF399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BC36A-F4DE-4E71-A1A2-ECD5F7230D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1ADB-1034-4901-9D04-94280E2CE2C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5B76-0BBF-4DC2-AD17-BCDE7BB9DFD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F418-DC22-41B5-B2AF-3193EA9E320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87AB-B731-44E7-B376-7CD962EE92F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4F46-202C-4A1D-A4F0-564720F266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59F13-F353-4B45-B402-FEB3E43AB9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68AAF-83E4-4EB1-9DE6-231F23F3DA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5987E-49D0-46EA-940B-444C373B8B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DA2A2-98CD-4696-B1DD-9E50F543F3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4CF5B-719E-4AB6-A61A-344ED32654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C0BFB-5E5B-435E-89A7-34E475BFEC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CBAB3-C37E-4F64-97BC-FAB5A1AFF2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47560" y="6400080"/>
            <a:ext cx="51055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37524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62B1B-292D-46EE-B684-FA497A5573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E870C-EF38-4AFA-AA41-4E36A8082C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37343-021A-42DB-A70B-0833A8F4BF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24080" y="1668240"/>
            <a:ext cx="5181840" cy="25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  <a:ea typeface="Verdana"/>
              </a:rPr>
              <a:t>Организация программы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Verdana"/>
                <a:ea typeface="Verdana"/>
              </a:rPr>
              <a:t>внешней оценки качества (ВОК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3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A4B7-93FF-49F4-B446-6D4176E6FE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09120" y="2133360"/>
            <a:ext cx="8077320" cy="35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направленность пр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цели и за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правила конфиденциа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благодарности, признание вкла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контактная информ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календарный граф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457200" y="789120"/>
            <a:ext cx="82296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SimSun"/>
              </a:rPr>
              <a:t>Обмен информаци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4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5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E6325-B9F2-4064-8034-F8EF23C1BF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SimSun"/>
              </a:rPr>
              <a:t>Отслежи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077320" cy="31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комментариев, отзывов на отч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роли «арбитра» организатора В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замечаний и рекомендаций от участвующих лаборатор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наилучших путей решения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наилучших способов для рекомендации определенных мет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MCj01572990000[1]"/>
          <p:cNvPicPr/>
          <p:nvPr/>
        </p:nvPicPr>
        <p:blipFill>
          <a:blip r:embed="rId1"/>
          <a:stretch/>
        </p:blipFill>
        <p:spPr>
          <a:xfrm>
            <a:off x="990720" y="4287960"/>
            <a:ext cx="2514600" cy="188424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8"/>
          <p:cNvSpPr/>
          <p:nvPr/>
        </p:nvSpPr>
        <p:spPr>
          <a:xfrm>
            <a:off x="3505320" y="4495680"/>
            <a:ext cx="5105160" cy="1447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  <a:ea typeface="SimSun"/>
              </a:rPr>
              <a:t>Отлично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  <a:ea typeface="SimSun"/>
              </a:rPr>
              <a:t>!</a:t>
            </a:r>
            <a:r>
              <a:rPr b="1" lang="ru-RU" sz="2800" spc="-1" strike="noStrike">
                <a:solidFill>
                  <a:srgbClr val="00007d"/>
                </a:solidFill>
                <a:latin typeface="Verdana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  <a:ea typeface="SimSun"/>
              </a:rPr>
              <a:t>Так и должно бы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3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77AE2-0DA1-4260-8F86-F57DD4BA95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участвовать в международной В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привлеките вышестоящие орг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начните с прост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начните с мал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начните с неинфекционных материа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перед началом проведите испы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начните с хорошим планом по взаимодействию и обмену информац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будьте очень внимательны к комментариям и отзыв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Verdana"/>
                <a:ea typeface="SimSun"/>
              </a:rPr>
              <a:t>Запуск программы ВОК для всей стр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SimSun"/>
              </a:rPr>
              <a:t>Выв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2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A911E-9ED1-47BE-A392-44E0FCEF38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41440" y="1209240"/>
            <a:ext cx="402588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Verdan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172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87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88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89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1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2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94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97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198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203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208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212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215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221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224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227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9" name="Footer Placeholder 1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3"/>
          <p:cNvSpPr/>
          <p:nvPr/>
        </p:nvSpPr>
        <p:spPr>
          <a:xfrm>
            <a:off x="533520" y="6276600"/>
            <a:ext cx="510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DF818-8A7D-4766-AE8A-9C9B065B89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Типы В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38188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циональная программа проверки компетент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еть лабораторий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жлабораторные сравнения, перепрове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ценка на м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533520" y="6429240"/>
            <a:ext cx="510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64128-97CC-486A-BA17-A6E399E471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8458200" cy="25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SimSun"/>
              </a:rPr>
              <a:t>Для организатора ВОК необходимо предшествующее (успешное!) участие в программе В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2971440"/>
            <a:ext cx="82296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SimSun"/>
              </a:rPr>
              <a:t>участие в международной программ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 (для организатора национальной программ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524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отслеживание качества в своей лабора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524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необходимо и обязате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524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вопрос об уверенности в своих сил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6F87A-B274-4233-AC56-0F991D212C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4928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SimSun"/>
              </a:rPr>
              <a:t>Привлеките вышестоящие орг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71320" y="1828800"/>
            <a:ext cx="834372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входит в сферу их полномоч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обеспечи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66"/>
                </a:solidFill>
                <a:latin typeface="Verdana"/>
                <a:ea typeface="SimSun"/>
              </a:rPr>
              <a:t>долгосрочнос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средства и способы обмена информацие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связь с органами по лицензированию, сертификации, аккредита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финансирование 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SimSun"/>
              </a:rPr>
              <a:t>(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мероприяти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ВОК приводят к экономи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средств, финансировани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их оправдано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MCj01570510000[1]"/>
          <p:cNvPicPr/>
          <p:nvPr/>
        </p:nvPicPr>
        <p:blipFill>
          <a:blip r:embed="rId1"/>
          <a:stretch/>
        </p:blipFill>
        <p:spPr>
          <a:xfrm>
            <a:off x="6858000" y="4343400"/>
            <a:ext cx="213372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A0A6E-5047-4983-B884-AE146ED2CB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SimSun"/>
              </a:rPr>
              <a:t>Начните с прост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3059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Проверка компетен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предметные стекл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окрашенные или неокраш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окраска по Гра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окраска на КУ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парази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идентификация бактериальных штамм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кишечных микроорганизмов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Перепрове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предметные стекла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КУБ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Грам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СМЖ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другие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бактериальные штаммы, если имеются материальные и технические возможности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коллекция штамм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frottis"/>
          <p:cNvPicPr/>
          <p:nvPr/>
        </p:nvPicPr>
        <p:blipFill>
          <a:blip r:embed="rId1"/>
          <a:stretch/>
        </p:blipFill>
        <p:spPr>
          <a:xfrm>
            <a:off x="5943600" y="22716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0" name="AutoShape 6"/>
          <p:cNvSpPr/>
          <p:nvPr/>
        </p:nvSpPr>
        <p:spPr>
          <a:xfrm>
            <a:off x="4267080" y="2438280"/>
            <a:ext cx="1600200" cy="45720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4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750C6-9E41-4BEE-993E-31DE6CE086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609588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SimSun"/>
              </a:rPr>
              <a:t>Начните с мал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792468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небольшое число лаборатор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регион для испы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проверьте вариан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транспортир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лаборатории на анали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(еще не участвующие в программ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первая проверка на простых задачах (предметные стекл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макс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лабораторий в течение 1-го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макс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пробы в одной рассылке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не реже 2 раз в год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j0278576"/>
          <p:cNvPicPr/>
          <p:nvPr/>
        </p:nvPicPr>
        <p:blipFill>
          <a:blip r:embed="rId1"/>
          <a:stretch/>
        </p:blipFill>
        <p:spPr>
          <a:xfrm>
            <a:off x="6477120" y="1447920"/>
            <a:ext cx="2151000" cy="259056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8"/>
          <p:cNvSpPr/>
          <p:nvPr/>
        </p:nvSpPr>
        <p:spPr>
          <a:xfrm rot="19759200">
            <a:off x="6934320" y="19810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4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74BA9-EDB8-48C3-A575-5B99B8CA21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SimSun"/>
              </a:rPr>
              <a:t>Начните с неинфекцион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47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в начале избегайте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«особо опасных»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патоге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инфекционных сыворо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выполняйте национальные правила по транспортиров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nhls1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A9689-1BC1-4CCC-91C6-185DD0AA36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382320"/>
            <a:ext cx="624816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SimSun"/>
              </a:rPr>
              <a:t>Требующаяся инфраструк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2076120"/>
            <a:ext cx="426708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рабочий ст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небольшая лаборато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редства связ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nhls2"/>
          <p:cNvPicPr/>
          <p:nvPr/>
        </p:nvPicPr>
        <p:blipFill>
          <a:blip r:embed="rId1"/>
          <a:stretch/>
        </p:blipFill>
        <p:spPr>
          <a:xfrm>
            <a:off x="5105520" y="2131920"/>
            <a:ext cx="3352680" cy="25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4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19E0A-C12D-4B88-A875-938DA9D77A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89120"/>
            <a:ext cx="82296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SimSun"/>
              </a:rPr>
              <a:t>Обмен информацией с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91320" cy="38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участвующими лаборатор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вышестоящими орган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научными сообществ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рофессиональными ассоциац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любыми другими сторонами, заинтересованными в 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j0283214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6"/>
          <p:cNvSpPr/>
          <p:nvPr/>
        </p:nvSpPr>
        <p:spPr>
          <a:xfrm>
            <a:off x="6781680" y="25858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«ВО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Olga</cp:lastModifiedBy>
  <dcterms:modified xsi:type="dcterms:W3CDTF">2013-05-15T13:57:15Z</dcterms:modified>
  <cp:revision>52</cp:revision>
  <dc:subject/>
  <dc:title>EQA scheme Organization optional</dc:title>
</cp:coreProperties>
</file>